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9CCEA-7654-44CB-BB37-6C0AE302DE52}" type="slidenum"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24416-E242-40B7-8F7F-02992CBCF8B0}" type="slidenum">
              <a:rPr b="0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360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249192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38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360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063680"/>
            <a:ext cx="2666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3880" y="112500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6840" y="406368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388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6840" y="2491920"/>
            <a:ext cx="40406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3880" y="4063680"/>
            <a:ext cx="8280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0937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3" marL="1536120" indent="-219240">
              <a:spcBef>
                <a:spcPts val="601"/>
              </a:spcBef>
              <a:buClr>
                <a:srgbClr val="03093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4" marL="1974960" indent="-219240">
              <a:spcBef>
                <a:spcPts val="601"/>
              </a:spcBef>
              <a:buClr>
                <a:srgbClr val="030937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5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lvl="6" marL="1974960" indent="-219240">
              <a:spcBef>
                <a:spcPts val="60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93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6227640" y="6510240"/>
            <a:ext cx="27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800" spc="-1" strike="noStrike">
                <a:solidFill>
                  <a:srgbClr val="404040"/>
                </a:solidFill>
                <a:latin typeface="Arial"/>
              </a:rPr>
              <a:t>Vítor Figueiredo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Conexão recta 44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12600">
            <a:solidFill>
              <a:srgbClr val="030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" name="Imagem 1" descr="logoesav"/>
          <p:cNvPicPr/>
          <p:nvPr/>
        </p:nvPicPr>
        <p:blipFill>
          <a:blip r:embed="rId2"/>
          <a:stretch/>
        </p:blipFill>
        <p:spPr>
          <a:xfrm>
            <a:off x="179280" y="115920"/>
            <a:ext cx="7081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Retângulo 2"/>
          <p:cNvSpPr/>
          <p:nvPr/>
        </p:nvSpPr>
        <p:spPr>
          <a:xfrm>
            <a:off x="954360" y="473040"/>
            <a:ext cx="180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3300"/>
                </a:solidFill>
                <a:latin typeface="Verdana"/>
                <a:ea typeface="Times New Roman"/>
              </a:rPr>
              <a:t>IPV-Escola Superior Agrár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8569080" cy="43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Viticultura e Enologia</a:t>
            </a:r>
            <a:br>
              <a:rPr sz="3200"/>
            </a:br>
            <a:r>
              <a:rPr b="1" lang="pt-PT" sz="3200" spc="-1" strike="noStrike">
                <a:solidFill>
                  <a:srgbClr val="030937"/>
                </a:solidFill>
                <a:latin typeface="Arial"/>
              </a:rPr>
              <a:t>CTESP Agricultura Biológica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pt-PT" sz="2800" spc="-1" strike="noStrike">
                <a:solidFill>
                  <a:srgbClr val="030937"/>
                </a:solidFill>
                <a:latin typeface="Arial"/>
              </a:rPr>
              <a:t>Vítor Figueiredo</a:t>
            </a:r>
            <a:br>
              <a:rPr sz="2800"/>
            </a:br>
            <a:r>
              <a:rPr b="1" lang="pt-PT" sz="2800" spc="-1" strike="noStrike">
                <a:solidFill>
                  <a:srgbClr val="0000a4"/>
                </a:solidFill>
                <a:latin typeface="Arial"/>
              </a:rPr>
              <a:t>vfigueiredo@esav.ipv.pt – 962 349 887</a:t>
            </a:r>
            <a:br>
              <a:rPr sz="2800"/>
            </a:br>
            <a:br>
              <a:rPr sz="2800"/>
            </a:br>
            <a:r>
              <a:rPr b="1" lang="pt-PT" sz="2000" spc="-1" strike="noStrike">
                <a:solidFill>
                  <a:srgbClr val="0000a4"/>
                </a:solidFill>
                <a:latin typeface="Arial"/>
              </a:rPr>
              <a:t>ESAV-IPV.</a:t>
            </a:r>
            <a:endParaRPr b="1" lang="en-US" sz="2000" spc="-1" strike="noStrike">
              <a:solidFill>
                <a:srgbClr val="030937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2920" y="2060640"/>
          <a:ext cx="7134120" cy="2281320"/>
        </p:xfrm>
        <a:graphic>
          <a:graphicData uri="http://schemas.openxmlformats.org/drawingml/2006/table">
            <a:tbl>
              <a:tblPr/>
              <a:tblGrid>
                <a:gridCol w="2116080"/>
                <a:gridCol w="5018040"/>
              </a:tblGrid>
              <a:tr h="975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Unidade Curricular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áquinas e Equipa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canização da Vin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Créditos/horas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3300"/>
                          </a:solidFill>
                          <a:latin typeface="Lucida Sans Unicode"/>
                        </a:rPr>
                        <a:t>4 ECTS – 45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40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º ano 2º semestre – 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mo se mede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área de exploração agrícol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O encabeça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dimensão económic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potência de um tra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10920" y="188640"/>
            <a:ext cx="83106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de medi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cv = 0,736 kW</a:t>
            </a: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 1 kW = 1,36 cv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cavalo vapor =» 0,73 Kw; 30 cv =» 22,06 Kw (potência)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hp = 1,014 cv 1 hp = 745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0,987 HP 1 W = 0,001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cv = 735,7 W 1 kW = 1,34 HP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W = 0,00136 cv 1 cv = 0,7355 (0,736) k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30937"/>
                </a:solidFill>
                <a:latin typeface="Arial"/>
              </a:rPr>
              <a:t>1 kW = 1,3596 (1,36) cv 1 kW = 1000 W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hectare = 10.000 m2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guilhada = 540 m2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pipa = 550 litros (Douro); 500 litros (Pinhel);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mude = 20 litros (Ferreira a Nova); 25 l (Castendo; Bodiosa) ; 27 l (Tondela e Mangualde); 30 l (Rio de Moinhos) outras regiões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lqueire = 11 kg (Bodiosa); 11,50 kg (Ferreira a Nova); 12,5 kg a 13 kg (Moimenta e Aguiar da Beira)-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Rasa (metade do alqueire=6,5 kg, Vilar de Besteiros-Tondela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Uma quarta de alqueire; Seromim (1/8 de alqueire).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30937"/>
                </a:solidFill>
                <a:latin typeface="Arial"/>
              </a:rPr>
              <a:t>1 arroba = 15 kg</a:t>
            </a:r>
            <a:endParaRPr b="0" lang="en-US" sz="20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bjetivos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68280"/>
            <a:ext cx="9020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er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constituição e funcionament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os motores de combustão interna do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trator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agrícolas e su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anuten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onhecimentos necessários à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gestão, planeamento e manutenção de parques de máquinas agrícola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presentar e descrever a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e equipamentos 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tilizados na realização das principais operações culturais (p.e. na vinha) , assim como as suas principais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teúdo programátic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125360"/>
            <a:ext cx="88218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Unidades motrizes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: Ciclos Diesel e Otto. Constituição geral. Transmissão, mecânica e hidráulica. Sistemas de direção e travagem. Sistemas de ligação com as alfaias. Equipamento elétrico do trator. Órgãos de locomoção. Tipos de tratores agrícol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mobilização sol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, de sementeira e de plantaçã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Máquinas de fertilização e de prote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culturas.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polivalente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áquinas de colheita/vindima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ndimento das operações culturais e seleção de parques de máquin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Regulações e calibração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e equipamento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Condições de admissão a avaliação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915920"/>
            <a:ext cx="8820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 classificação final (≥ 10,0 valores) é obtida a partir das seguintes avaliações parciais: 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Prova escrita teórico-prática = 6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- Trabalho prático de dimensionamento e seleção de um parque de equipamentos = 40%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É condição necessária, para admissão a qualquer época de avaliação, a </a:t>
            </a:r>
            <a:r>
              <a:rPr b="1" lang="pt-PT" sz="2400" spc="-1" strike="noStrike">
                <a:solidFill>
                  <a:srgbClr val="030937"/>
                </a:solidFill>
                <a:latin typeface="Arial"/>
              </a:rPr>
              <a:t>presença em 2/3</a:t>
            </a: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 das aulas práticas lecionadas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112500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Apresentação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3880" y="2491920"/>
            <a:ext cx="82803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valiação diagnóstica / Terminologia agrícol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6600" y="475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30937"/>
                </a:solidFill>
                <a:latin typeface="Arial"/>
              </a:rPr>
              <a:t>Algumas questões prévias.</a:t>
            </a: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 O que significa: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6600" y="1341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AU-superfície agrícola úti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temporária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ulturas permanentes (ex.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aldi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N-cabeça normal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E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P-Sistema de Identificação parcelar? IE (eis P1)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lígono de investiment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3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edido Ún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484280"/>
            <a:ext cx="83055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om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unói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ctiníd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náce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ireito da vinh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a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micronutrient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Um corretivo de acidez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H do sol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teção integrada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Modo de Produção Biológico.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0" y="404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280" y="119700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urrib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Lavoura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ol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Fresagem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do fenológ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Vernal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agrícol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Boas práticas fitossanitária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olariz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Sideraçã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Rastreabilidade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Globalg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30937"/>
                </a:solidFill>
                <a:latin typeface="Arial"/>
              </a:rPr>
              <a:t>O que significa? </a:t>
            </a:r>
            <a:endParaRPr b="1" lang="en-US" sz="2800" spc="-1" strike="noStrike">
              <a:solidFill>
                <a:srgbClr val="030937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09200" y="1700280"/>
            <a:ext cx="8280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IF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DRAPC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Estação de Aviso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CAP; Confagri; CNA; AJAP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ADD; ADDLAP; ADICES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E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DR2020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Jovem agricultor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30937"/>
                </a:solidFill>
                <a:latin typeface="Arial"/>
              </a:rPr>
              <a:t>Produto fitofarmacêutico?</a:t>
            </a: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30937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937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2:24:42Z</dcterms:created>
  <dc:creator>Vítor Figueiredo, Eng.</dc:creator>
  <dc:description/>
  <dc:language>en-US</dc:language>
  <cp:lastModifiedBy>Vitor Miguel Figueiredo</cp:lastModifiedBy>
  <cp:lastPrinted>2017-03-06T09:02:17Z</cp:lastPrinted>
  <dcterms:modified xsi:type="dcterms:W3CDTF">2017-03-09T18:29:30Z</dcterms:modified>
  <cp:revision>330</cp:revision>
  <dc:subject/>
  <dc:title>Slide 1</dc:title>
</cp:coreProperties>
</file>